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882-6BC7-4578-9E18-B5EE5B44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7A8-17F2-4886-B5AC-F6CC8A67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177-B1AD-4B5C-BC3B-3A5B96BC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AB2-160E-455C-B9F7-17AB16DF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220-F8AD-40B3-8254-0A8897ED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66B-9A1E-472B-9264-9F16EA65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67B-2F9A-4AB7-AFEF-2DAB927C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DC2-49E6-441A-AA96-AC2AFD65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507-1679-459A-871F-66B50FF0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B1C-0973-4450-B192-370E2A5B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9A1-4B89-44A8-88D8-CFE34559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85E-9130-49DE-9A13-151F35A7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754A-C449-49DF-9A38-F3C59699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>
            <a:grayscl/>
          </a:blip>
          <a:stretch/>
        </p:blipFill>
        <p:spPr>
          <a:xfrm>
            <a:off x="5105520" y="167652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p:transition spd="med"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23</cp:lastModifiedBy>
  <dcterms:modified xsi:type="dcterms:W3CDTF">2012-06-19T11:26:2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